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F92-4856-4F52-984F-129581E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0D8-541A-4993-B75B-DFA3C1C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28C-B631-4606-99C9-460C66A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B8A-E589-4EC2-9D6F-5672DD3D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3C8-D2F9-47F2-9059-45F02D67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54E-902C-494F-96ED-6618994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274-211B-43E2-BDC1-9D1069D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B4E-FFFB-4869-B05E-1C1EBC9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5B3C-E269-4230-91DB-4A36C07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DDA-13BF-4918-A34A-4976775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698-3D46-4E89-984A-342971E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F79-24F2-48B7-85C7-FA8E157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2C5-CF72-4BCB-A418-6B8157B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054-85B5-4B4F-94BE-C4EAB1E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7D84-576A-4369-8997-9D4C9AA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EDA-74A6-463D-9060-77B0D258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61AC-5CA0-4FD5-AEDD-0484F734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EF2D-9B7F-45E2-9303-AC32E398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1CA8-EA25-49F7-A4A1-EC80537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45E2-DFBD-4321-B2C2-23EB212A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B40E-168C-4EAD-AD1E-EBDCBD0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094C-A2CC-404E-978B-55FF58B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435-27D6-48D2-9860-A9A8287F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8C1E-A1C8-4A38-BA26-797A2255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070F-114A-4009-9535-16A7C1D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B521-BB63-463C-AA91-7750E3A0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0196-4F58-4380-9DF4-EB215CE7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74A3-44F5-45AD-876E-05410A5A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38E4-3A0D-4BB8-A474-6AA6589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DF34-9173-4D26-9DB9-579F24C4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5286-AA91-49BA-9A83-61133198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93F4-8368-47D5-AB0A-20B27CD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4493-103C-41A4-A19B-B170CD92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2CA-C34B-4A75-9031-9BC7ED6D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22C6-B4AD-49DF-84FA-5C877CE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9720-A7C1-47C3-8E9E-EB043DA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D59D-FFF2-437D-9A93-BE5114D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AFD0-EB4D-407D-8F62-B8CE452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D5F3-E239-4EF3-B20B-F09B9B8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BE29-4731-4C1A-89F7-A825B5F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20CD-04F3-49F5-9339-5A62C5FB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4B3E-A78F-4EB0-AC30-82F0D01B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CB11-122E-46DD-8889-87AE4B68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AF09-BD1D-457D-A37C-3A1F92C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22A-31F6-432D-8842-2617029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124E-4B3B-4286-BF6F-4D59A371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DC6D-27A8-49BE-8034-38CBB99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B11D-1585-4F77-8BA5-09236A9B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BF51-F53F-432A-B1F7-A40DCED0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C8E1-3052-4BF1-AB00-6962121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2858-A1B3-4917-B5C5-5B597E7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B3B5-577D-4E8C-A260-8E5BD63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09AC-8F11-49A4-B7D9-1B3A5F7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2D93-22D6-48AE-AD1B-1CD7E328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F7BE-B603-43EF-A972-348B138C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8A7-42A3-4864-905D-5C3481C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F6F9-0279-4ADA-9999-648C416A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F853-8163-429C-B228-6E702BC3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D0F4-B3C6-4B3A-BB18-315C12C1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D99C-FE7C-43E7-B6EA-2C1F80AB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9650-C073-4B88-9DA0-7D1508B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C52F-ABCE-44A3-97B0-0AD0C3C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1A4C-7A40-4928-95C0-38F064A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03A8-015A-45A1-9E2E-353C97E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4488E-42DC-4B71-BA83-7505ECE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F762-717D-419C-A6D4-B20C30BE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57-CAAE-4D8D-BE17-1059ADE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BE9B-B873-48BF-822A-3E601F8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C686-6D52-4F0B-AC06-C8576A5A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CFE8-EBB3-478E-94BE-8E314527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EC85-9542-4B4A-AE54-44906510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8AD0-3462-4BBA-A5CA-0FAA471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6FE1-185B-43B0-AE63-B7D8B33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3CDA-FE09-4BF8-9BCA-50406F8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EB6D4-EBB8-4A07-89B0-CDE829E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A63C-7859-40C6-B7F9-790D142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D339-3AF6-4C0D-B17A-51180B6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C76-8F44-4C7D-96EF-C9A620D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602E7-EC07-4A00-BF78-45A8707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58E47-D523-40E9-9919-F3D8C94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F5B9-9032-4E9D-ABD9-3F76CA89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C866-70C9-4501-A44A-AE5AC9E9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D30F-93C6-427B-9F92-78C40D83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D09F-2975-4B6F-BFDD-BC804848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A0E7-11F1-4BCE-A5BE-A367E2F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66DD-CFEE-45D5-8D0D-9D81354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2BDEB-FED4-4C1F-8846-F82A7BC9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B531A-FF98-41A5-8E69-1BD4B84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D4B-CF41-48C9-806A-6986840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A215C-1AA2-48F7-A262-A33FC76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4F6F-E180-48EF-BD34-6C8C5AD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C9F87-4A85-4C3E-8BF5-C49178A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26D87-C382-4BE0-AAA4-E40279C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AA938-4257-4E5F-981C-B3D5AC4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A287-588D-476C-99FC-7D09E748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ECF3-39C1-430C-AA0C-05EA5270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A745-22AA-4EE0-BFDF-1E3D20AC4B7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AE6-18C4-482E-8B39-62C25233243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D4A-1DDD-4CDE-971A-53EDBFABF71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7E9-467C-43FD-A0EE-CD589CE8503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FD3-2D4E-483F-AAA0-87BB2B68E47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059-A6A0-4FAD-8F9B-E6AE99A1AA1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3C7B-AA47-4818-AE24-09B2CC6A0A1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326-9293-467A-A32C-36D45BCF4A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1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457200" y="41911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5% of O’Gorman students scored a 4 or 5 while only 26.2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student at O’Gorman scored lower than a 3 on the ex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3606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1-07-14T17:04:56Z</dcterms:modified>
  <cp:revision>5</cp:revision>
  <dc:subject/>
  <dc:title>2011 AP English  Literature and Composition Results</dc:title>
</cp:coreProperties>
</file>